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8231D-D73F-43B5-B5C3-44E70919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DD0FA-8791-4999-B6CC-3540E15D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58BBB-6A7D-48ED-84F5-55765F79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302B-32EA-4C80-B4CE-6C172536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10FA-DA82-4B7F-9002-9E09B16C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8863-3253-4907-A5A2-A79E1F8F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384D-3BA7-4D98-8D73-B92E1265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039D-AB30-4AFC-A73E-85424D44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CED7-54D2-4069-B07E-8FF5C8BC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DE1E-A41C-4790-87AD-5408B67F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78C7-816A-48E5-B84B-CD97C803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5B160-137D-403A-BBC4-B31997A7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572D-7FB5-4F24-BD54-A5DC18EB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5AE1-7120-4CCE-AF9E-53D988D2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AC4B-783B-435B-A81E-CECC23D0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5451-AF16-443A-B184-FC728987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CBB7-1025-48F9-A77C-BEC22ACC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A4FEC-5B33-4363-A08D-40E49F61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90A2F-433A-4798-98B0-7EC38743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6F6A0-0DCA-438D-832B-351E8E7F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14C21-E195-4EB5-828D-C6CE68FB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FDF7F-C9FE-4ECD-9186-4EA9E8A8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A4D53-4653-4E27-B292-112D1EE0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C1BE8-DDB2-443B-A1C0-E12F0334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94ED-4C40-4111-94A3-AF161E0517B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3D20-EEFE-44A8-9CEC-54EC619F78D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81080" y="141084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11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797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 (Пр.138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С божествено прощение присъствай в туй кръщение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рца, уста ни просвет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ха ни, Боже, освет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08000" y="2402640"/>
            <a:ext cx="925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Ние Словото на Бога наш обичаме - нам то е страж; заповедта Му е живо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аш небесен скъп имо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40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Умий ни, Спасе, в Свойта кръв, пази ни от Сатанска стръ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е влизаме във воден гроб -свържи ни във небесен сноп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0980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днес до самия ни кра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нов живот Ти сила да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ха Си Свят във нас изле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ърца ни любовта Си влей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09:10:23Z</dcterms:modified>
  <cp:revision>69</cp:revision>
  <dc:subject/>
  <dc:title>Slide 1</dc:title>
</cp:coreProperties>
</file>